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F2D0-279D-40D1-AEC1-EBC206CD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57E-5126-4226-9D4C-D31DEE5C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1A8-DF07-491E-AE81-50E9E529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FC52-62E1-4471-A5CC-368C70DA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A6556-0AD7-45C8-ADAE-AD926D35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37B79-4F76-49B5-8E5A-15AC7B5D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D0556-060E-4700-B724-137B7430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FAAF8-16F3-4161-8BC2-53015B57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331E4-C072-4724-823C-959E0AD4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9FF20-5A4B-463E-AA9D-476E25D7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BA3F1-55AC-45D0-93D1-646F04F8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513B-0C01-4FAA-BB7A-4ED81340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C8F26-78E7-4CEF-AF79-CE83FF53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6C35F-4C2D-4D84-AD00-00D95A23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2AF2D-8321-409E-9B9C-B2BCFE59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048F0-4189-46C7-945E-D44517EA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28336-E6F5-4C15-B333-EB61537C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FD0-9DF7-4FC2-9219-8DB9B652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55E8-6797-48D3-A488-B8886C97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085-82D1-4BDC-A614-FF0C04D9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A7D-CB27-49FD-9DEF-B2ADF2AED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5EFA-BE19-42BE-9CDF-887C6CDE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5EC-E69F-4C65-AE6F-437AC81A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BD2-8C42-4A98-8F86-CFED10DC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1024-D4AD-4DA6-8E4A-90D3BAF4B452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611F-BE30-486B-9187-FC0920ED40FD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ALA ANM 16 – Rapporteur Report 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Agenda item 5.4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Development of e-Navigation within AtoN Author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Gerry Br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Manager Aids to Navigati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5867280" y="404640"/>
            <a:ext cx="250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NM17/8/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ormerly e-NAV10/5/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10920" y="1773000"/>
            <a:ext cx="806436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ed for standards &amp; regu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e-navigation test b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ridge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r centr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discussion for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1915920"/>
            <a:ext cx="6624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Architecture – the shore-based perspec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 AtoN information standar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 developments in member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699320" cy="21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formation Paper on the draft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280" y="314172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is document establishes relevant principles for a shore-based system architecture harmonized for e-Navigation.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19280" y="47628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-Navigation - shipboard, shore-based and links in-between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403280" y="1916280"/>
            <a:ext cx="2720880" cy="2164680"/>
            <a:chOff x="1403280" y="1916280"/>
            <a:chExt cx="2720880" cy="2164680"/>
          </a:xfrm>
        </p:grpSpPr>
        <p:sp>
          <p:nvSpPr>
            <p:cNvPr id="92" name="Text Box 6"/>
            <p:cNvSpPr/>
            <p:nvPr/>
          </p:nvSpPr>
          <p:spPr>
            <a:xfrm>
              <a:off x="1403280" y="3253320"/>
              <a:ext cx="2720880" cy="8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93" name="Object 5"/>
            <p:cNvGraphicFramePr/>
            <p:nvPr/>
          </p:nvGraphicFramePr>
          <p:xfrm>
            <a:off x="1735560" y="1916280"/>
            <a:ext cx="1588320" cy="142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5560" y="1916280"/>
                      <a:ext cx="1588320" cy="142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Oval 9"/>
          <p:cNvSpPr/>
          <p:nvPr/>
        </p:nvSpPr>
        <p:spPr>
          <a:xfrm>
            <a:off x="5940360" y="1773360"/>
            <a:ext cx="1989360" cy="1989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Object 10"/>
          <p:cNvGraphicFramePr/>
          <p:nvPr/>
        </p:nvGraphicFramePr>
        <p:xfrm>
          <a:off x="6227640" y="1916280"/>
          <a:ext cx="1455840" cy="164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27640" y="191628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12"/>
          <p:cNvSpPr/>
          <p:nvPr/>
        </p:nvSpPr>
        <p:spPr>
          <a:xfrm>
            <a:off x="4356000" y="184464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3995640" y="1989000"/>
          <a:ext cx="1352520" cy="1197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5640" y="198900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3"/>
          <p:cNvSpPr/>
          <p:nvPr/>
        </p:nvSpPr>
        <p:spPr>
          <a:xfrm>
            <a:off x="125892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79600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verarching e-Navigation architecture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611280" y="1413000"/>
          <a:ext cx="7956360" cy="52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95636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he e-Navigation architecture with a focus on the shore-side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HO GI Registry, including the IALA dom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Current and planned e-Navigation developments by IALA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777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ustralia has established an e-Navigation consultation grou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n 2010-11, the Canadian Coast Guard prepared an e-Navigation vision/strategy with input from industry stakeholders (still a draf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reland are well advanced on AIS with 19 buoys and 10 lighthouses fitted - will roll out a total of 64 AIS AtoN in the next 2 yea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Norwegian Branch of the Nautical Institute held a seminar October 2010 – Lee Alexander was a key presenter and emphasised the need for mariners too define us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Thanks for your atten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Mike Hadley</cp:lastModifiedBy>
  <dcterms:modified xsi:type="dcterms:W3CDTF">2011-07-06T09:33:55Z</dcterms:modified>
  <cp:revision>23</cp:revision>
  <dc:subject/>
  <dc:title>Slide 1</dc:title>
</cp:coreProperties>
</file>